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3CBA16-E735-484D-8409-6989FD1ED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011-177A-48FC-A2BE-F691A3E6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581-572C-40D2-9FEC-A43D6E50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C81-AB9D-41B6-A42D-2B8A3547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972-277C-4292-9D67-74D8C0DC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758-F1A1-4F2B-9A25-5B2A8E1E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30B-20AD-4F3A-8598-16019A66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3E8-7358-4044-8172-C7DEFE2B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52E-E088-4439-B847-C096F795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5DD-D6C3-4465-8E51-AE811E30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0D9-DB6C-45F7-86D5-FC47F7D5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8D5-2056-4FD2-B3A6-E03FE6C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E1F-7866-4841-A68F-84FFD52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34CF-B485-4A8F-9A40-F38188F7E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45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25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RomaK</cp:lastModifiedBy>
  <cp:lastPrinted>2002-01-16T21:03:42Z</cp:lastPrinted>
  <dcterms:modified xsi:type="dcterms:W3CDTF">2015-09-04T09:30:34Z</dcterms:modified>
  <cp:revision>38</cp:revision>
  <dc:subject/>
  <dc:title>No Slide Title</dc:title>
</cp:coreProperties>
</file>